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BB024-1705-47BE-A720-CED7791BF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E9B45-BD2F-4E65-A611-81780AEE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75261-2E1D-4CD7-926C-2DE4B5BC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97262-B006-4A7E-AECE-C35CA127B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A3CD-958D-4864-9EC4-3DDC65B13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5CED-C1AD-4109-A075-33028FC9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73B5-0021-4094-A96A-B5082639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5BE6-F9B2-4640-87FC-88CFBFB8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E670-2BD5-4054-AE82-8803889F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2CCB-F9AA-42B0-92B6-F6FE39F3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746A-DA0C-4FC2-8117-AB44FA29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FF10F-D13E-49A1-B382-E99583EB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28FF-CEB6-404D-B02B-DC867951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7659-8915-43CA-BF08-F89099A7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8071-495A-41B3-BB7A-9FDC0F3A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15D7-6F82-43EC-94EB-286311986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D8C1-5A05-4D49-8A02-BB3904A57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A9582-A9BD-4724-8B3C-E0DA5EE7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100F3-B997-4116-A4F3-02BA8804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34236-8548-49CA-9139-8A974605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DB296-143A-4611-BAD3-6A59C571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CFDC2-1FDB-4A94-90F2-79CF1205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8EE91-0E12-4437-9BEC-B719B587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2D962-8984-4EBE-963F-D25AFFD1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208E-C110-42EF-8419-7D70AE1678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1FFE-0818-44A1-B240-E83AD49FF3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1736640"/>
            <a:ext cx="85341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odoni MT Black"/>
              </a:rPr>
              <a:t>THE WISE AND FOOLISH BUILDER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6840" y="42670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enguiat Bk BT"/>
              </a:rPr>
              <a:t>Matthew 7:24-27, Luke 6:46-4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Translating hearing into do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Obedience must be added to hearing Jesus’ wor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1" lang="en-US" sz="6000" spc="-1" strike="noStrike">
                <a:solidFill>
                  <a:srgbClr val="ffffff"/>
                </a:solidFill>
                <a:latin typeface="Bodoni MT Black"/>
              </a:rPr>
              <a:t> OF THE PARABLE</a:t>
            </a: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44956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iven at the close to the Sermon on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ou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1" lang="en-US" sz="4000" spc="-1" strike="noStrike">
                <a:solidFill>
                  <a:srgbClr val="ffffff"/>
                </a:solidFill>
                <a:latin typeface="Bodoni MT Black"/>
              </a:rPr>
              <a:t> OF THE PARABLE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 sermon demanded a positive response – it could not be ignore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1. The challenge of the sermon would not go awa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re is no neutral ground – no third optio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at challenge is a fitting conclusion to these last parables, for the response to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 message is crucial, critical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1.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Hearing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of the message – The Soi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Pondering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of the message – The Children at Pla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3.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Response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to the Message – The Build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In the latter part of the sermon, Jesus uses three sets of contrast to show the absolute necessity of obedience to His messag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1.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Matthew 7:13-14 –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Broad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way leads to destruction,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and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Narrow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way leads to lif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Matthew 7:16-19 –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Good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Tree bearing good fruit and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Evil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Tree bearing evil frui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n the third is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Wise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an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Foolish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Build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Lip-service is never a substitute for actions.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Matthew 7:21 –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“not everyone who says unto me Lord,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Lord…”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Luke 6:46 –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“and why me Lord, Lord and do not the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things I say?”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Unreserved obedience is demanded by our Lord.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Romans 2:13 –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“for it is not those who hear the law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who are righteous in God’s sight, but it those who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obey the law who will be declared righteous.”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There was no profit to the Hebrews because they did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not associate hearing the word with doing the word.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a. Hebrews 3:19 –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“so we see they were not able to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    enter, because of their unbelief.”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b. Hebrews 4:6 –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“…they did not go in because of their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    unbelief.”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James 2:2 –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“a man is justified by what he does </a:t>
            </a:r>
            <a:r>
              <a:rPr b="0" i="1" lang="en-US" sz="2000" spc="-1" strike="noStrike">
                <a:solidFill>
                  <a:srgbClr val="ffffff"/>
                </a:solidFill>
                <a:latin typeface="Benguiat Bk BT"/>
              </a:rPr>
              <a:t>and </a:t>
            </a:r>
            <a:r>
              <a:rPr b="0" i="1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Benguiat Bk BT"/>
              </a:rPr>
              <a:t>not by faith only.”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All hearers are build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Both heard the same message – And it was the right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messag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re are only two kinds of build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a.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Wise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– Builds on Jesus’ word; life modeled by His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   morals; patterned by His exampl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b.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Foolish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– Builds on foundations of his own choosing;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   makes up his own life-style; establishes his prioriti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Hearers have two choices from which to choose their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foundatio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a. “Puts them into practice” – obeys = rock – has a solid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   foundation for lif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1)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Because Christ’s words are truth – John 8:31-32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2)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Because His words came from God – John 8:48-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50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3)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Because He the foundation on which God builds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 church – Matthew 16:18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. “Does not put them into practice” – disobeys = Sand – Shifty,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unstable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1) Rejection of Jesus’ teaching is a choice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2) This is the spirit and attitude of the sons of disobedient –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    Ephesians 2:2-3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3) If God doesn’t build the house, the laborers build in vain –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    Psalm 127:1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The floods will come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. 1 Peter 4:12 – </a:t>
            </a:r>
            <a:r>
              <a:rPr b="0" i="1" lang="en-US" sz="1800" spc="-1" strike="noStrike">
                <a:solidFill>
                  <a:srgbClr val="ffffff"/>
                </a:solidFill>
                <a:latin typeface="Benguiat Bk BT"/>
              </a:rPr>
              <a:t>“Do not be surprised at the painful trials…”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. 2 Timothy 3:12 – If you live a godly life, you will suffer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5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ll houses are tested by flood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. Impartial – Same flood hits both house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. Each man’s works will be made known – 1 Corinthians 3:13;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cf. Hebrews 12:11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6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Only one builder will stand – the one who obeys!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. Only the obedient are saved – Hebrews 5:9; 2 Thessalonians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1: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. </a:t>
            </a:r>
            <a:r>
              <a:rPr b="0" i="1" lang="en-US" sz="1800" spc="-1" strike="noStrike">
                <a:solidFill>
                  <a:srgbClr val="ffffff"/>
                </a:solidFill>
                <a:latin typeface="Benguiat Bk BT"/>
              </a:rPr>
              <a:t>“And it fell with a great crash.”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– Everything was lost!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07:27:05Z</dcterms:created>
  <dc:creator>Jerry Cantrell </dc:creator>
  <dc:description/>
  <dc:language>en-US</dc:language>
  <cp:lastModifiedBy>Jerry Cantrell </cp:lastModifiedBy>
  <dcterms:modified xsi:type="dcterms:W3CDTF">2006-02-19T10:13:58Z</dcterms:modified>
  <cp:revision>7</cp:revision>
  <dc:subject/>
  <dc:title>THE WISE AND FOOLISH BUILDERS</dc:title>
</cp:coreProperties>
</file>